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D18D-70ED-4EA0-89A2-BCF9ECF9F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4111-7674-4CFD-B9A5-D2C70D7FC4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64D3-0B0B-4E9B-B838-132E802C41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3340-0504-40AF-9C9C-A248DE378C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467-AEB1-4488-8BE3-22D1F39B90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9085-4722-488E-8DE9-1F3A80C36C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BAD8-D0C1-47A9-8733-87EE0F3714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C331-22DF-49B7-BBEE-4D8CD9D955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3656-C227-4FB8-B7D1-1354655875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CA21-63FF-4E01-B8C0-3101BD0213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4904-8193-4265-A565-77201EE812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E5EA-542D-4170-AA7B-738883FEC2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7EAD-3144-47DD-B622-5B816D6C51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8293-6B2F-463F-AC9B-0C4C92ADDF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D60-CA3F-4EE0-AB13-0429FFE375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B24A-ABF9-4D11-BE02-143A3576AA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4597-7429-4220-B395-96000975CC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1CDD-0D8A-4B79-95BC-7AEA01025D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65BC-D36D-47A0-8E4F-C19CF65559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D27C-ED87-4391-9EB7-3F931AEA89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C5BB-E143-4C38-A262-9709C80C56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7A99-D3DD-4471-9184-873C615C24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E10D-8AD6-42A8-A249-0C9D8A33B3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2271-D462-40F9-A331-BF34851488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BBB-D3DF-40E8-91B0-59AC3E23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EA8-EBA2-43BA-9847-5A1C3F98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453-9D7F-456D-8561-A2FBB80F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310-BC54-4410-AEB6-52C59BC4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D4B-071A-4D5F-81EE-10D13D5C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7EF-6279-4732-92D2-8D708A1D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718-D905-4670-A0A9-60120002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D65-410C-46DE-8C3D-F62C11F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4D4-76BB-49B3-A1E7-DB1BA4B2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F26-7542-4987-80FF-8A5D76AC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417-1B94-4A90-80D1-C644272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CDD-91E0-4CAE-A26D-3625258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2903-D6CF-43CB-BA42-C7B1128F8D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086600" y="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ntiport"/>
          <p:cNvPicPr/>
          <p:nvPr/>
        </p:nvPicPr>
        <p:blipFill>
          <a:blip r:embed="rId1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01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40080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0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24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6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99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0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2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>
                    <a:gd name="textAreaLeft" fmla="*/ 0 w 2979720"/>
                    <a:gd name="textAreaRight" fmla="*/ 2980080 w 2979720"/>
                    <a:gd name="textAreaTop" fmla="*/ 0 h 1312920"/>
                    <a:gd name="textAreaBottom" fmla="*/ 1313280 h 1312920"/>
                  </a:gdLst>
                  <a:ahLst/>
                  <a:rect l="textAreaLeft" t="textAreaTop" r="textAreaRight" b="textAreaBottom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19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0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2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24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28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>
                        <a:gd name="textAreaLeft" fmla="*/ 0 w 2979360"/>
                        <a:gd name="textAreaRight" fmla="*/ 2979720 w 2979360"/>
                        <a:gd name="textAreaTop" fmla="*/ 0 h 1312920"/>
                        <a:gd name="textAreaBottom" fmla="*/ 1313280 h 1312920"/>
                      </a:gdLst>
                      <a:ahLst/>
                      <a:rect l="textAreaLeft" t="textAreaTop" r="textAreaRight" b="textAreaBottom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</dc:creator>
  <dc:description/>
  <dc:language>en-US</dc:language>
  <cp:lastModifiedBy>joconnor</cp:lastModifiedBy>
  <dcterms:modified xsi:type="dcterms:W3CDTF">2010-10-21T15:38:3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